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A386-71C8-4BFD-BE2D-98911CC7CDE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is required for heating, lighting and operating appli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can be supplied from electricity,gas oil, or solid fu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the cost of home heating depends on the fuel and installation co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the cost of running an appliance depends on the power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is required for heating, lighting and operating appli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can be supplied from electricity,gas oil, or solid fu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the cost of home heating depends on the fuel and installation co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the cost of running an appliance depends on the power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ee from the pie chart and previous slides that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two thirds of energy is used for 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ligh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nergy can come from coal , gas, or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llowing table compares the cost of instal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unning the three different types of fuel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ee from the pie chart and previous slides that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two thirds of energy is used for h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igh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can come from coal , gas, or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table compares the cost of insta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running the three different types of fue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Bedroom flat without cavity wall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s g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al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nn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t 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14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12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8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3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2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2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 Bedroom flat without cavity wall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fu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s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a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 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1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1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2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2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you have copied the previous slide, copy and answer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is the cheapest to insta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is the cheapest to u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would be least popular in flats?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have copied the previous slide, copy and answer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ques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is the cheapest to insta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is the cheapest to u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would be least popular in flats?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some things that people have said about different fu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an 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heat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as I c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easy to 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di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with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h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`re n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dr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hea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ar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`re n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things that people have said about different fu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heat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on as I 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easy to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di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wi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`re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d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heav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r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`re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l in the table below to say which fuel each comment is ab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s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 in the table below to say which fuel each comment is ab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fu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s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ble below shows how a family of four used their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one w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i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ir tong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uum clean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ast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y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tt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ez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.V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 machin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k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filled radiato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heat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able below shows how a family of four used their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one we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a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ir tong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cuum clean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s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1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y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tt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z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V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ing machi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filled radiat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ing for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information from the previous table to work out the co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your electricity bill for  the week.The cost of one unit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is about 7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does this work out for twelve week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did they pay for the heat producing applianc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ing for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information from the previous table to work out the c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your electricity bill for  the week.The cost of one unit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about 7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does this work out for twelve wee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did they pay for the heat producing applia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lect a sheet of graph paper and put the information on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r cha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hre appliances use the most energ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se appliances produc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 a sheet of graph paper and put the information on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r ch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hre appliances use the most energ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these appliances produ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ing for b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alculate the following bills,you must take the previous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ay from the present reading.Then you must multiply the units 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t of one unit which is 7p.Then  you add on the fixed char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your total b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         previous       units         fixed charge        amo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600            15300            7p               £10                     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         previous       cubic metres     kWh          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00            100                  30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ing for b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lculate the following bills,you must take the previous r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from the present reading.Then you must multiply the units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st of one unit which is 7p.Then  you add on the fixed char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your total b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         previous       units         fixed charge       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00            15300            7p               £10                     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         previous       cubic metres     kWh         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00            100                  30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ing for bills cont`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 B cont`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ing charge  £8.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 per kWh  = 1.6p            Total  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ing for bills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 B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ing charge  £8.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 per kWh  = 1.6p            Total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costs can be calculated from the 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wo meter rea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losses cost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can be lost by convection ,conduction and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heat loss can be cut down by insulation, double glazing, and draught exclud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heat waste can be cut down by for example using showers instead of baths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costs can be calculated from the 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two meter r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losses cost mo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can be lost by convection ,conduction and rad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heat loss can be cut down by insulation, double glazing, and draught exclu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heat waste can be cut down by for example using showers instead of bath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can be lost from our homes in a variety of ways -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an be lost from our homes in a variety of ways -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can be seen from the previous slide,energy can be lost fr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ls, roofs, doors and windo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duce these losses and in doing so ,save money,there are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ways this can be done.We have to make use of variou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ys of insulating our ho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ught proof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gging pi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ing carpe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ft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 glaz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l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can be seen from the previous slide,energy can be lost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s, roofs, doors and wind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duce these losses and in doing so ,save money,there ar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ways this can be done.We have to make use of vario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of insulating 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ught proof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ging pi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ing carpe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ft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glaz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UGHT PROOF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door or window does not shut tightly,cold air can blow in.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plastic materials which mould into the shape of the gap,we c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 the los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GGING PI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hot water is going through pipes below the floor or in the lof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cool quickly.Lagging is a covering of fabric or foam whi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cut this type of lo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UGHT PROOF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door or window does not shut tightly,cold air can blow in.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plastic materials which mould into the shape of the gap,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the lo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GING PI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ot water is going through pipes below the floor or in the lof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cool quickly.Lagging is a covering of fabric or foa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cut this type of l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ING CARP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pets look nice on the eye but they also provide good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room by keeping heat from escaping through the floorboa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FT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ick glass wool layer up in the loft will stop heat going throug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o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ING CARP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pets look nice on the eye but they also provide good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room by keeping heat from escaping through the floorboa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FT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ick glass wool layer up in the loft will stop heat going throug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f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 GLAZ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thod of insulation sees two glass panels separated by 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free  space.A side view is shown be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free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GLAZ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thod of insulation sees two glass panels separated by 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free  space.A side view is shown be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free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VITY WALL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avity or space between outer walls can be filled with mate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as polystyrene foam to stop heat lo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ing energy was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showers instead of ba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se doors when you leave a ro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 off heaters in rooms you are not us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`t boil a full kettle if you are only making one cup of t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VITY WALL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vity or space between outer walls can be filled with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s polystyrene foam to stop heat l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ing energy wa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howers instead of ba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doors when you leave a 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off heaters in rooms you are not u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`t boil a full kettle if you are only making one cup of t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mostats -: used in most homes in several situ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urn the heating on or off in a room automa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an be placed on the walls in a room or on individu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ven thermostat allows you to set the oven at a cer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ron thermostat allows the iron to be set at a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will not burn your cloth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tats -: used in most homes in several situ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urn the heating on or off in a room automat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be placed on the walls in a room or on individ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ven thermostat allows you to set the oven at a cer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ron thermostat allows the iron to be set at a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will not burn your clot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immersion heater has a thermostat to control the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kettle has a thermostat which does the same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immersion heater has a thermostat to control th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kettle has a thermostat which does the same jo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ERMOSTAT           HOW IT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ermostat consists of two metals stuck together back to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m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t gets cold or hot ,one metal expands more than the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metal bar bends up or down.This arrangement is called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etallic str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 -: place the bimetallic strip in a bunsen flame an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RMOSTAT           HOW IT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rmostat consists of two metals stuck together back to b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m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it gets cold or hot ,one metal expands more than the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metal bar bends up or down.This arrangement is called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metallic str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 -: place the bimetallic strip in a bunsen flame an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metallic strip should look as shown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metallic strip should look as shown ab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many appliances use thermostats to keep 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ady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many appliances use thermostats to keep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ady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be sent over large dist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cables allow you to send electricity to 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s of a ro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also be very dangerous if not treated proper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lectric shock can paralyse us and cause our heart to st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ths from electric shocks is more common in young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elder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can be sent over large di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cables allow you to send electricity to 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can also be very dangerous if not treated prope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ctric shock can paralyse us and cause our heart to 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s from electric shocks is more common in young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elde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res in a three pin plug are coloured as follows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IVE BR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BLU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GREEN/YEL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ires in a three pin plug are coloured as follows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IVE BR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BL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GREEN/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REE PIN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Collect a diagram of the three pin plug which has be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Stick it into your noteb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 :- the earth is for safety .The fuse is for safet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switch is for safety.The electricity flows FROM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 wire and BACK via the NEU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You will be shown how to wire the plug by your teac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E PIN PL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Collect a diagram of the three pin plug which has b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Stick it into your note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:- the earth is for safety .The fuse is for safet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switch is for safety.The electricity flows FROM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 wire and BACK via the NEU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You will be shown how to wire the plug by your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REE PIN PLUG CONT`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use is a thin piece of wire which will melt if too mu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flows through it.If more than 3 amperes flows throug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3 ampere fuse it will melt and will cause all the electricity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switched off.This means that the plug wires cannot over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cause a fire.Fuses are of two types in a three pin pl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 appliance uses more than 3 amperes(3A) then a 13 amp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e must be used.If it uses less than 3A then a 3A fuse is u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E PIN PLUG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se is a thin piece of wire which will melt if too mu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flows through it.If more than 3 amperes flows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3 ampere fuse it will melt and will cause all the electricity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witched off.This means that the plug wires cannot over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cause a fire.Fuses are of two types in a three pin pl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appliance uses more than 3 amperes(3A) then a 13 amp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must be used.If it uses less than 3A then a 3A fuse is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generally have two types of fuse , the 3Amp and the 13 Am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e is a safety device in the three pin pl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power of an appliance is greater than 700Watts , e.g. a kettle , we use a 13Amp fuse.If it is less than 700 Watts , e.g. a lamp , we fit a 3Amp f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nerally have two types of fuse , the 3Amp and the 13 A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e is a safety device in the three pin pl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ower of an appliance is greater than 700Watts , e.g. a kettle , we use a 13Amp fuse.If it is less than 700 Watts , e.g. a lamp , we fit a 3Amp f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 THE EARTH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ly the earth does nothing in a circuit, but if the live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how touches the casing of an appliance  such as a toaste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ould get an electric shock and be badly injured.To stop th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ening,the earth wire causes a large current to flow.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s the fuse and the appliance becomes de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THE EARTH 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ly the earth does nothing in a circuit, but if the live 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how touches the casing of an appliance  such as a toast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ould get an electric shock and be badly injured.To stop th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ening,the earth wire causes a large current to flow.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ws the fuse and the appliance becomes d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 RENEWABLE SOURCE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ssil Fu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coal , oil and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al is made from dead plant material milloins of years 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and Gas are made from dead sea creatures millons of years 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they have been used they can no longer be used and are therefore running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RENEWABLE SOURCES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ssil Fu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coal , oil and 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l is made from dead plant material milloins of years 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and Gas are made from dead sea creatures millons of years 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they have been used they can no longer be used and are therefore running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DE 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de oil is a mixture of hundreds of different compounds and is difficult to bu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aken from the worlds oil fields to refineries where it is clea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separated into different chemicals we can 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different chemical is separated out at a different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DE 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de oil is a mixture of hundreds of different compounds and is difficult to bu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aken from the worlds oil fields to refineries where it is clea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eparated into different chemicals we can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ifferent chemical is separated out at a different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DE 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de oil products include the following 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tled gas at 200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trol at 700C for veh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ffin oil at 1700C for jets and ligh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esel at 2700C  for tr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bricating oils for oil , polish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tumen at 3500C for roa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DE 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de oil products include the following 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d gas at 200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rol at 700C for veh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ffin oil at 1700C for jets and ligh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sel at 2700C  for tr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bricating oils for oil , polis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umen at 3500C for 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rning Fu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fuels are burned in oxygen , heat is produced but carbon dioxide and water vapour are also produ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lphur dioxide and nitrogen are also produ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gases cause global warming and acid r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ing Fu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uels are burned in oxygen , heat is produced but carbon dioxide and water vapour are also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phur dioxide and nitrogen are also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gases cause global warming and acid 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the four main activities that people u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or in a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he four main activities that people u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or in a 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gas is produced when fuel does not burn completely.This is called Carbon Monox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as has no smell and can cause d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s are now fitted with catalytic converters which convert this gas into a harmless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gas is produced when fuel does not burn completely.This is called Carbon Mon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as has no smell and can cause de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s are now fitted with catalytic converters which convert this gas into a harmless 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looking at the pi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n, list the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ways in which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us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appliances 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energ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looking at the pi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n, list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ways in which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u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appliances 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energ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can be supplied to the home in three w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:- this is brought to us from power stations.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s via pylons and underground c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:- this comes from the north sea.It is pumped a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pelines to gas st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 fuel :- this is the form of coal, wood or peat.Coal i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d and peat is cut from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an be supplied to the home in three 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:- this is brought to us from power stations.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es via pylons and underground c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:- this comes from the north sea.It is pumped a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pelines to gas s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fuel :- this is the form of coal, wood or peat.Coal i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d and peat is cut from the gr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houses use ei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central h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central h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f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f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h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houses use ei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f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f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xt slide shows the uses of energy in the h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ses are :- 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 water   2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.V. ,lights etc. :-5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king :- 1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m heating  :- 65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 of other appliances and add them to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gr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slide shows the uses of energy in the h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s are :- 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water   2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V. ,lights etc. :-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ing :- 1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m heating  :- 6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other appliances and add them to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7C6E-8359-4981-AD01-994B55D11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CE46-6439-4730-B686-ECC42598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69BA-CF02-4DAC-8DC1-3F57A6827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3DCA-D07E-48E3-AD59-A534CBBE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02FF-A508-47A4-AB85-34D73DAC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4E98-8B84-4D70-8DB4-50F57737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065A-4CE9-4FCE-8B46-8477C54A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31DB-EE91-43A0-92A1-99DE5685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CD1C-384F-4F43-9757-76E81B89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6477-49A8-422E-8B94-AEBF8073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BAA0-1B35-4B2C-B578-089FC8FF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BC2E-0FC4-438B-B032-B951A806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7B3A-083B-4BA6-8493-149AC6294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88620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85800" y="1828800"/>
            <a:ext cx="7772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end of this unit you should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is required for heating, lighting and operating appli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can be supplied from electricity,gas oil, or solid fu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the cost of home heating depends on the fuel and installation co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the cost of running an appliance depends on the powe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2666880" y="1066680"/>
            <a:ext cx="3552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4038480" y="38088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3505320" y="1371600"/>
            <a:ext cx="21715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0" y="2362320"/>
            <a:ext cx="1053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see from the pie chart and previous slides that :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re than two thirds of energy is used for he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ligh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energy can come from coal , gas, or electr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ollowing table compares the cost of inst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running the three different types of fuel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41148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1" name="WordArt 6"/>
          <p:cNvSpPr txBox="1"/>
          <p:nvPr/>
        </p:nvSpPr>
        <p:spPr>
          <a:xfrm>
            <a:off x="2971800" y="1295280"/>
            <a:ext cx="3486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 cont`d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62120" y="2666880"/>
            <a:ext cx="8001000" cy="38102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685800" y="41911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762120" y="51055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2"/>
          <p:cNvSpPr/>
          <p:nvPr/>
        </p:nvSpPr>
        <p:spPr>
          <a:xfrm>
            <a:off x="2514600" y="32767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3"/>
          <p:cNvSpPr/>
          <p:nvPr/>
        </p:nvSpPr>
        <p:spPr>
          <a:xfrm>
            <a:off x="4800600" y="32767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934320" y="32767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1043280" y="2784600"/>
            <a:ext cx="58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  Bedroom flat without cavity wall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6"/>
          <p:cNvSpPr/>
          <p:nvPr/>
        </p:nvSpPr>
        <p:spPr>
          <a:xfrm>
            <a:off x="2650680" y="339408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id f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7"/>
          <p:cNvSpPr/>
          <p:nvPr/>
        </p:nvSpPr>
        <p:spPr>
          <a:xfrm>
            <a:off x="4937760" y="3394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ins g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8"/>
          <p:cNvSpPr/>
          <p:nvPr/>
        </p:nvSpPr>
        <p:spPr>
          <a:xfrm>
            <a:off x="6991560" y="3394080"/>
            <a:ext cx="14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9"/>
          <p:cNvSpPr/>
          <p:nvPr/>
        </p:nvSpPr>
        <p:spPr>
          <a:xfrm>
            <a:off x="744840" y="438480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t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0"/>
          <p:cNvSpPr/>
          <p:nvPr/>
        </p:nvSpPr>
        <p:spPr>
          <a:xfrm>
            <a:off x="823680" y="5222880"/>
            <a:ext cx="130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st 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1"/>
          <p:cNvSpPr/>
          <p:nvPr/>
        </p:nvSpPr>
        <p:spPr>
          <a:xfrm>
            <a:off x="2652480" y="4384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1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2"/>
          <p:cNvSpPr/>
          <p:nvPr/>
        </p:nvSpPr>
        <p:spPr>
          <a:xfrm>
            <a:off x="5167080" y="43084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1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3"/>
          <p:cNvSpPr/>
          <p:nvPr/>
        </p:nvSpPr>
        <p:spPr>
          <a:xfrm>
            <a:off x="7072560" y="4308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8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4"/>
          <p:cNvSpPr/>
          <p:nvPr/>
        </p:nvSpPr>
        <p:spPr>
          <a:xfrm>
            <a:off x="2881440" y="56037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5"/>
          <p:cNvSpPr/>
          <p:nvPr/>
        </p:nvSpPr>
        <p:spPr>
          <a:xfrm>
            <a:off x="5167440" y="5451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2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6"/>
          <p:cNvSpPr/>
          <p:nvPr/>
        </p:nvSpPr>
        <p:spPr>
          <a:xfrm>
            <a:off x="7072560" y="5527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2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39"/>
          <p:cNvSpPr/>
          <p:nvPr/>
        </p:nvSpPr>
        <p:spPr>
          <a:xfrm flipV="1">
            <a:off x="838080" y="3276360"/>
            <a:ext cx="79250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4"/>
          <p:cNvSpPr txBox="1"/>
          <p:nvPr/>
        </p:nvSpPr>
        <p:spPr>
          <a:xfrm>
            <a:off x="4267080" y="38088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2" name="WordArt 5"/>
          <p:cNvSpPr txBox="1"/>
          <p:nvPr/>
        </p:nvSpPr>
        <p:spPr>
          <a:xfrm>
            <a:off x="2971800" y="1295280"/>
            <a:ext cx="3486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 cont`d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07000" y="2403360"/>
            <a:ext cx="877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ce you have copied the previous slide, copy and answe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llowing ques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fuel is the cheapest to instal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fuel is the cheapest to 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fuel would be least popular in flats?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4114800" y="4572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3048120" y="1371600"/>
            <a:ext cx="3485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 cont`d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811800" y="2327400"/>
            <a:ext cx="80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e are some things that people have said about different fu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4038480" y="3429000"/>
            <a:ext cx="2438640" cy="990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1"/>
          <p:cNvSpPr/>
          <p:nvPr/>
        </p:nvSpPr>
        <p:spPr>
          <a:xfrm>
            <a:off x="3733920" y="5105520"/>
            <a:ext cx="1600200" cy="15238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12"/>
          <p:cNvSpPr/>
          <p:nvPr/>
        </p:nvSpPr>
        <p:spPr>
          <a:xfrm>
            <a:off x="6858000" y="0"/>
            <a:ext cx="2057400" cy="13716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219320" y="3200400"/>
            <a:ext cx="186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7"/>
          <p:cNvSpPr/>
          <p:nvPr/>
        </p:nvSpPr>
        <p:spPr>
          <a:xfrm>
            <a:off x="685800" y="3048120"/>
            <a:ext cx="2438280" cy="20574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974880" y="3317760"/>
            <a:ext cx="205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an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heat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on as I 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4403520" y="3470400"/>
            <a:ext cx="19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easy to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22"/>
          <p:cNvSpPr/>
          <p:nvPr/>
        </p:nvSpPr>
        <p:spPr>
          <a:xfrm>
            <a:off x="762120" y="380880"/>
            <a:ext cx="1904760" cy="17528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27"/>
          <p:cNvSpPr/>
          <p:nvPr/>
        </p:nvSpPr>
        <p:spPr>
          <a:xfrm>
            <a:off x="762120" y="5410080"/>
            <a:ext cx="2133360" cy="1143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9"/>
          <p:cNvSpPr/>
          <p:nvPr/>
        </p:nvSpPr>
        <p:spPr>
          <a:xfrm>
            <a:off x="1050480" y="5527800"/>
            <a:ext cx="159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30"/>
          <p:cNvSpPr/>
          <p:nvPr/>
        </p:nvSpPr>
        <p:spPr>
          <a:xfrm>
            <a:off x="7010280" y="3429000"/>
            <a:ext cx="1600200" cy="1295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2"/>
          <p:cNvSpPr/>
          <p:nvPr/>
        </p:nvSpPr>
        <p:spPr>
          <a:xfrm>
            <a:off x="7146720" y="3546360"/>
            <a:ext cx="11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di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4"/>
          <p:cNvSpPr/>
          <p:nvPr/>
        </p:nvSpPr>
        <p:spPr>
          <a:xfrm>
            <a:off x="7147800" y="41400"/>
            <a:ext cx="169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h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5"/>
          <p:cNvSpPr/>
          <p:nvPr/>
        </p:nvSpPr>
        <p:spPr>
          <a:xfrm>
            <a:off x="6651720" y="5554800"/>
            <a:ext cx="18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`re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9"/>
          <p:cNvSpPr/>
          <p:nvPr/>
        </p:nvSpPr>
        <p:spPr>
          <a:xfrm>
            <a:off x="1128600" y="498600"/>
            <a:ext cx="13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d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1"/>
          <p:cNvSpPr/>
          <p:nvPr/>
        </p:nvSpPr>
        <p:spPr>
          <a:xfrm>
            <a:off x="3947040" y="522288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hea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ar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42"/>
          <p:cNvSpPr/>
          <p:nvPr/>
        </p:nvSpPr>
        <p:spPr>
          <a:xfrm>
            <a:off x="5257800" y="4876920"/>
            <a:ext cx="1143000" cy="838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4"/>
          <p:cNvSpPr/>
          <p:nvPr/>
        </p:nvSpPr>
        <p:spPr>
          <a:xfrm>
            <a:off x="5394240" y="4917960"/>
            <a:ext cx="96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6"/>
          <p:cNvSpPr/>
          <p:nvPr/>
        </p:nvSpPr>
        <p:spPr>
          <a:xfrm>
            <a:off x="6615000" y="52228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48"/>
          <p:cNvSpPr/>
          <p:nvPr/>
        </p:nvSpPr>
        <p:spPr>
          <a:xfrm>
            <a:off x="7010280" y="4952880"/>
            <a:ext cx="1828800" cy="1905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0"/>
          <p:cNvSpPr/>
          <p:nvPr/>
        </p:nvSpPr>
        <p:spPr>
          <a:xfrm>
            <a:off x="7299000" y="5146560"/>
            <a:ext cx="14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`re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1028"/>
          <p:cNvSpPr txBox="1"/>
          <p:nvPr/>
        </p:nvSpPr>
        <p:spPr>
          <a:xfrm>
            <a:off x="3962520" y="304920"/>
            <a:ext cx="1323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9" name="WordArt 1030"/>
          <p:cNvSpPr txBox="1"/>
          <p:nvPr/>
        </p:nvSpPr>
        <p:spPr>
          <a:xfrm>
            <a:off x="2895480" y="1295280"/>
            <a:ext cx="3486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 cont`d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Text Box 1031"/>
          <p:cNvSpPr/>
          <p:nvPr/>
        </p:nvSpPr>
        <p:spPr>
          <a:xfrm>
            <a:off x="533520" y="2057400"/>
            <a:ext cx="84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table below to say which fuel each comment is ab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32"/>
          <p:cNvSpPr/>
          <p:nvPr/>
        </p:nvSpPr>
        <p:spPr>
          <a:xfrm>
            <a:off x="1066680" y="3048120"/>
            <a:ext cx="7239240" cy="26668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033"/>
          <p:cNvSpPr/>
          <p:nvPr/>
        </p:nvSpPr>
        <p:spPr>
          <a:xfrm>
            <a:off x="1066680" y="380988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034"/>
          <p:cNvSpPr/>
          <p:nvPr/>
        </p:nvSpPr>
        <p:spPr>
          <a:xfrm>
            <a:off x="3352680" y="30481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035"/>
          <p:cNvSpPr/>
          <p:nvPr/>
        </p:nvSpPr>
        <p:spPr>
          <a:xfrm>
            <a:off x="5867280" y="30481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37"/>
          <p:cNvSpPr/>
          <p:nvPr/>
        </p:nvSpPr>
        <p:spPr>
          <a:xfrm>
            <a:off x="1203120" y="316548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id f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038"/>
          <p:cNvSpPr/>
          <p:nvPr/>
        </p:nvSpPr>
        <p:spPr>
          <a:xfrm>
            <a:off x="3489840" y="324180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s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039"/>
          <p:cNvSpPr/>
          <p:nvPr/>
        </p:nvSpPr>
        <p:spPr>
          <a:xfrm>
            <a:off x="6248520" y="320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1028"/>
          <p:cNvSpPr txBox="1"/>
          <p:nvPr/>
        </p:nvSpPr>
        <p:spPr>
          <a:xfrm>
            <a:off x="3733920" y="457200"/>
            <a:ext cx="1323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9" name="WordArt 1029"/>
          <p:cNvSpPr txBox="1"/>
          <p:nvPr/>
        </p:nvSpPr>
        <p:spPr>
          <a:xfrm>
            <a:off x="2362320" y="1295280"/>
            <a:ext cx="4371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ing electrical energ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Text Box 1030"/>
          <p:cNvSpPr/>
          <p:nvPr/>
        </p:nvSpPr>
        <p:spPr>
          <a:xfrm>
            <a:off x="516960" y="2068560"/>
            <a:ext cx="6843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table below shows how a family of four used their elec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uring one we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pplian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____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ir tong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acuum clean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as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y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ettl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3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eez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.V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ashing machin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ok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il filled radiato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ater hea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4"/>
          <p:cNvSpPr txBox="1"/>
          <p:nvPr/>
        </p:nvSpPr>
        <p:spPr>
          <a:xfrm>
            <a:off x="4267080" y="38088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2819520" y="1295280"/>
            <a:ext cx="3924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aying for electricit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736560" y="2327400"/>
            <a:ext cx="811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the information from the previous table to work out the c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your electricity bill for  the week.The cost of one uni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ity is about 7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much does this work out for twelve wee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much did they pay for the heat producing applian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1028"/>
          <p:cNvSpPr txBox="1"/>
          <p:nvPr/>
        </p:nvSpPr>
        <p:spPr>
          <a:xfrm>
            <a:off x="3962520" y="380880"/>
            <a:ext cx="1323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5" name="WordArt 1029"/>
          <p:cNvSpPr txBox="1"/>
          <p:nvPr/>
        </p:nvSpPr>
        <p:spPr>
          <a:xfrm>
            <a:off x="2590920" y="1295280"/>
            <a:ext cx="4371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ing electrical energ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Text Box 1030"/>
          <p:cNvSpPr/>
          <p:nvPr/>
        </p:nvSpPr>
        <p:spPr>
          <a:xfrm>
            <a:off x="203040" y="2479680"/>
            <a:ext cx="8396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llect a sheet of graph paper and put the information o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bar ch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es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thre appliances use the most energ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do these appliances produc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5"/>
          <p:cNvSpPr txBox="1"/>
          <p:nvPr/>
        </p:nvSpPr>
        <p:spPr>
          <a:xfrm>
            <a:off x="380988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8" name="WordArt 6"/>
          <p:cNvSpPr txBox="1"/>
          <p:nvPr/>
        </p:nvSpPr>
        <p:spPr>
          <a:xfrm>
            <a:off x="3200400" y="1219320"/>
            <a:ext cx="2790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aying for bill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659880" y="2174760"/>
            <a:ext cx="849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calculate the following bills,you must take the previous 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way from the present reading.Then you must multiply the units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ost of one unit which is 7p.Then  you add on the fixed char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get your total b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ll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838080" y="4114800"/>
            <a:ext cx="7925040" cy="8380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893160" y="407988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sent         previous       units         fixed charge        am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898560" y="4460760"/>
            <a:ext cx="77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5600            15300            7p               £10                     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22600" y="499428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ll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762120" y="5562720"/>
            <a:ext cx="8076960" cy="8380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893160" y="5527800"/>
            <a:ext cx="75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sent         previous       cubic metres     kWh          char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5013360" y="651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9"/>
          <p:cNvSpPr/>
          <p:nvPr/>
        </p:nvSpPr>
        <p:spPr>
          <a:xfrm>
            <a:off x="976680" y="5908680"/>
            <a:ext cx="581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 startAt="56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500            100                  30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56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4"/>
          <p:cNvSpPr txBox="1"/>
          <p:nvPr/>
        </p:nvSpPr>
        <p:spPr>
          <a:xfrm>
            <a:off x="3962520" y="304920"/>
            <a:ext cx="1323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9" name="WordArt 5"/>
          <p:cNvSpPr txBox="1"/>
          <p:nvPr/>
        </p:nvSpPr>
        <p:spPr>
          <a:xfrm>
            <a:off x="2362320" y="1295280"/>
            <a:ext cx="41050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aying for bills cont`d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897840" y="202248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ll B cont`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838080" y="2743200"/>
            <a:ext cx="7315200" cy="10666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nding charge  £8.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1963080" y="3241800"/>
            <a:ext cx="50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rge per kWh  = 1.6p            Total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411480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2819520" y="1066680"/>
            <a:ext cx="3600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228600" y="1828800"/>
            <a:ext cx="8470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costs can be calculated from the dif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two meter read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losses cost mon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can be lost by convection ,conduction and rad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heat loss can be cut down by insulation, double glazing, and draught exclu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heat waste can be cut down by for example using showers instead of bath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4"/>
          <p:cNvSpPr txBox="1"/>
          <p:nvPr/>
        </p:nvSpPr>
        <p:spPr>
          <a:xfrm>
            <a:off x="3962520" y="228600"/>
            <a:ext cx="1323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4" name="WordArt 5"/>
          <p:cNvSpPr txBox="1"/>
          <p:nvPr/>
        </p:nvSpPr>
        <p:spPr>
          <a:xfrm>
            <a:off x="3200400" y="1219320"/>
            <a:ext cx="2657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441360" y="1981080"/>
            <a:ext cx="8321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can be lost from our homes in a variety of ways -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2438280" y="3886200"/>
            <a:ext cx="4191120" cy="21337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2438280" y="31237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3"/>
          <p:cNvSpPr/>
          <p:nvPr/>
        </p:nvSpPr>
        <p:spPr>
          <a:xfrm>
            <a:off x="3809880" y="3124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4"/>
          <p:cNvSpPr/>
          <p:nvPr/>
        </p:nvSpPr>
        <p:spPr>
          <a:xfrm>
            <a:off x="548640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5"/>
          <p:cNvSpPr/>
          <p:nvPr/>
        </p:nvSpPr>
        <p:spPr>
          <a:xfrm>
            <a:off x="5715000" y="31240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6"/>
          <p:cNvSpPr/>
          <p:nvPr/>
        </p:nvSpPr>
        <p:spPr>
          <a:xfrm flipV="1">
            <a:off x="3886200" y="5333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7"/>
          <p:cNvSpPr/>
          <p:nvPr/>
        </p:nvSpPr>
        <p:spPr>
          <a:xfrm>
            <a:off x="38862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9"/>
          <p:cNvSpPr/>
          <p:nvPr/>
        </p:nvSpPr>
        <p:spPr>
          <a:xfrm>
            <a:off x="4572000" y="5334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5486400" y="4419720"/>
            <a:ext cx="53352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2971800" y="4495680"/>
            <a:ext cx="762120" cy="6098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22"/>
          <p:cNvSpPr/>
          <p:nvPr/>
        </p:nvSpPr>
        <p:spPr>
          <a:xfrm flipV="1">
            <a:off x="6705720" y="4876560"/>
            <a:ext cx="9144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3"/>
          <p:cNvSpPr/>
          <p:nvPr/>
        </p:nvSpPr>
        <p:spPr>
          <a:xfrm>
            <a:off x="7680240" y="4689360"/>
            <a:ext cx="89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4"/>
          <p:cNvSpPr/>
          <p:nvPr/>
        </p:nvSpPr>
        <p:spPr>
          <a:xfrm flipV="1">
            <a:off x="6172200" y="2895480"/>
            <a:ext cx="9144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5"/>
          <p:cNvSpPr/>
          <p:nvPr/>
        </p:nvSpPr>
        <p:spPr>
          <a:xfrm>
            <a:off x="7301160" y="2708280"/>
            <a:ext cx="79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26"/>
          <p:cNvSpPr/>
          <p:nvPr/>
        </p:nvSpPr>
        <p:spPr>
          <a:xfrm>
            <a:off x="4267080" y="60958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5015160" y="6060960"/>
            <a:ext cx="80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28"/>
          <p:cNvSpPr/>
          <p:nvPr/>
        </p:nvSpPr>
        <p:spPr>
          <a:xfrm flipH="1" flipV="1">
            <a:off x="1447920" y="4724280"/>
            <a:ext cx="1371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9"/>
          <p:cNvSpPr/>
          <p:nvPr/>
        </p:nvSpPr>
        <p:spPr>
          <a:xfrm>
            <a:off x="137880" y="438480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4"/>
          <p:cNvSpPr txBox="1"/>
          <p:nvPr/>
        </p:nvSpPr>
        <p:spPr>
          <a:xfrm>
            <a:off x="41148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5" name="WordArt 5"/>
          <p:cNvSpPr txBox="1"/>
          <p:nvPr/>
        </p:nvSpPr>
        <p:spPr>
          <a:xfrm>
            <a:off x="3276720" y="1219320"/>
            <a:ext cx="2657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05920" y="2327400"/>
            <a:ext cx="9181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can be seen from the previous slide,energy can be lost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lls, roofs, doors and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reduce these losses and in doing so ,save money,there ar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umber of ways this can be done.We have to make use of vari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ys of insulating our h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raught proof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gging p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ying carpe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ft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uble glaz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ll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4"/>
          <p:cNvSpPr txBox="1"/>
          <p:nvPr/>
        </p:nvSpPr>
        <p:spPr>
          <a:xfrm>
            <a:off x="40384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8" name="WordArt 5"/>
          <p:cNvSpPr txBox="1"/>
          <p:nvPr/>
        </p:nvSpPr>
        <p:spPr>
          <a:xfrm>
            <a:off x="3352680" y="1219320"/>
            <a:ext cx="2657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430200" y="2098800"/>
            <a:ext cx="8593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RAUGHT PROOF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 door or window does not shut tightly,cold air can blow in.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ing plastic materials which mould into the shape of the gap,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uce the lo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GGING P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hot water is going through pipes below the floor or in the lof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can cool quickly.Lagging is a covering of fabric or foam wh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cut this type of lo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052"/>
          <p:cNvSpPr txBox="1"/>
          <p:nvPr/>
        </p:nvSpPr>
        <p:spPr>
          <a:xfrm>
            <a:off x="4038480" y="304920"/>
            <a:ext cx="14004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1" name="WordArt 2053"/>
          <p:cNvSpPr txBox="1"/>
          <p:nvPr/>
        </p:nvSpPr>
        <p:spPr>
          <a:xfrm>
            <a:off x="3352680" y="1219320"/>
            <a:ext cx="2657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Text Box 2054"/>
          <p:cNvSpPr/>
          <p:nvPr/>
        </p:nvSpPr>
        <p:spPr>
          <a:xfrm>
            <a:off x="827640" y="2098800"/>
            <a:ext cx="27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YING CARP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056"/>
          <p:cNvSpPr/>
          <p:nvPr/>
        </p:nvSpPr>
        <p:spPr>
          <a:xfrm>
            <a:off x="508680" y="2860560"/>
            <a:ext cx="838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rpets look nice on the eye but they also provide good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a room by keeping heat from escaping through the floorbo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FT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thick glass wool layer up in the loft will stop heat going throug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roo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1028"/>
          <p:cNvSpPr txBox="1"/>
          <p:nvPr/>
        </p:nvSpPr>
        <p:spPr>
          <a:xfrm>
            <a:off x="3962520" y="304920"/>
            <a:ext cx="13428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5" name="WordArt 1029"/>
          <p:cNvSpPr txBox="1"/>
          <p:nvPr/>
        </p:nvSpPr>
        <p:spPr>
          <a:xfrm>
            <a:off x="3276720" y="1371600"/>
            <a:ext cx="27432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Text Box 1030"/>
          <p:cNvSpPr/>
          <p:nvPr/>
        </p:nvSpPr>
        <p:spPr>
          <a:xfrm>
            <a:off x="661680" y="2479680"/>
            <a:ext cx="8041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UBLE GLA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method of insulation sees two glass panels separated by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 free  space.A side view is shown be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031"/>
          <p:cNvSpPr/>
          <p:nvPr/>
        </p:nvSpPr>
        <p:spPr>
          <a:xfrm>
            <a:off x="3505320" y="4191120"/>
            <a:ext cx="457200" cy="18288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032"/>
          <p:cNvSpPr/>
          <p:nvPr/>
        </p:nvSpPr>
        <p:spPr>
          <a:xfrm>
            <a:off x="4038480" y="5181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033"/>
          <p:cNvSpPr/>
          <p:nvPr/>
        </p:nvSpPr>
        <p:spPr>
          <a:xfrm flipH="1">
            <a:off x="1980720" y="5181480"/>
            <a:ext cx="1295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034"/>
          <p:cNvSpPr/>
          <p:nvPr/>
        </p:nvSpPr>
        <p:spPr>
          <a:xfrm>
            <a:off x="5699880" y="4994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036"/>
          <p:cNvSpPr/>
          <p:nvPr/>
        </p:nvSpPr>
        <p:spPr>
          <a:xfrm>
            <a:off x="822960" y="4994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037"/>
          <p:cNvSpPr/>
          <p:nvPr/>
        </p:nvSpPr>
        <p:spPr>
          <a:xfrm flipV="1">
            <a:off x="3733920" y="449532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038"/>
          <p:cNvSpPr/>
          <p:nvPr/>
        </p:nvSpPr>
        <p:spPr>
          <a:xfrm>
            <a:off x="5316840" y="423216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 free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4"/>
          <p:cNvSpPr txBox="1"/>
          <p:nvPr/>
        </p:nvSpPr>
        <p:spPr>
          <a:xfrm>
            <a:off x="3962520" y="304920"/>
            <a:ext cx="1323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5" name="WordArt 5"/>
          <p:cNvSpPr txBox="1"/>
          <p:nvPr/>
        </p:nvSpPr>
        <p:spPr>
          <a:xfrm>
            <a:off x="3124080" y="1295280"/>
            <a:ext cx="26575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657360" y="2251080"/>
            <a:ext cx="8364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VITY WALL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avity or space between outer walls can be filled with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ch as polystyrene foam to stop heat lo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ucing energy was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ve showers instead of ba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ose doors when you leave a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witch off heaters in rooms you are not u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n`t boil a full kettle if you are only making one cup of t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nodeType="clickEffect" fill="hold">
                      <p:stCondLst>
                        <p:cond delay="indefinite"/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nodeType="clickEffect" fill="hold">
                      <p:stCondLst>
                        <p:cond delay="indefinite"/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nodeType="clickEffect" fill="hold">
                      <p:stCondLst>
                        <p:cond delay="indefinite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4"/>
          <p:cNvSpPr txBox="1"/>
          <p:nvPr/>
        </p:nvSpPr>
        <p:spPr>
          <a:xfrm>
            <a:off x="388620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8" name="WordArt 5"/>
          <p:cNvSpPr txBox="1"/>
          <p:nvPr/>
        </p:nvSpPr>
        <p:spPr>
          <a:xfrm>
            <a:off x="2438280" y="1066680"/>
            <a:ext cx="4038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ple energy sav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582480" y="1870200"/>
            <a:ext cx="7518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mostats -: used in most homes in several situ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turn the heating on or off in a room automatic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an be placed on the walls in a room or on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ven thermostat allows you to set the oven at a cer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ron thermostat allows the iron to be set at a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will not burn your clot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nodeType="clickEffect" fill="hold">
                      <p:stCondLst>
                        <p:cond delay="indefinite"/>
                      </p:stCondLst>
                      <p:childTnLst>
                        <p:par>
                          <p:cTn id="1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nodeType="clickEffect" fill="hold">
                      <p:stCondLst>
                        <p:cond delay="indefinite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nodeType="clickEffect" fill="hold">
                      <p:stCondLst>
                        <p:cond delay="indefinite"/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4"/>
          <p:cNvSpPr txBox="1"/>
          <p:nvPr/>
        </p:nvSpPr>
        <p:spPr>
          <a:xfrm>
            <a:off x="40384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1" name="WordArt 5"/>
          <p:cNvSpPr txBox="1"/>
          <p:nvPr/>
        </p:nvSpPr>
        <p:spPr>
          <a:xfrm>
            <a:off x="2514600" y="1219320"/>
            <a:ext cx="40384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ple energy sav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351360" y="2022480"/>
            <a:ext cx="831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immersion heater has a thermostat to control the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kettle has a thermostat which does the same j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nodeType="clickEffect" fill="hold">
                      <p:stCondLst>
                        <p:cond delay="indefinite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nodeType="clickEffect" fill="hold">
                      <p:stCondLst>
                        <p:cond delay="indefinite"/>
                      </p:stCondLst>
                      <p:childTnLst>
                        <p:par>
                          <p:cTn id="1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4"/>
          <p:cNvSpPr txBox="1"/>
          <p:nvPr/>
        </p:nvSpPr>
        <p:spPr>
          <a:xfrm>
            <a:off x="38862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4" name="WordArt 5"/>
          <p:cNvSpPr txBox="1"/>
          <p:nvPr/>
        </p:nvSpPr>
        <p:spPr>
          <a:xfrm>
            <a:off x="2514600" y="1219320"/>
            <a:ext cx="40384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ple energy sav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685800" y="217476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HERMOSTAT           HOW IT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430560" y="2784600"/>
            <a:ext cx="829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hermostat consists of two metals stuck together back to b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1066680" y="3429000"/>
            <a:ext cx="2743200" cy="76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1066680" y="3505320"/>
            <a:ext cx="274320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1052280" y="30132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1066680" y="350532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4020480" y="331776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426600" y="4156200"/>
            <a:ext cx="818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t gets cold or hot ,one metal expands more than the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metal bar bends up or down.This arrangement is called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metallic str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 -: place the bimetallic strip in a bunsen flame and 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2" dur="indefinite" restart="never" nodeType="tmRoot">
          <p:childTnLst>
            <p:seq>
              <p:cTn id="1493" dur="indefinite" nodeType="mainSeq">
                <p:childTnLst>
                  <p:par>
                    <p:cTn id="1494" nodeType="clickEffect" fill="hold">
                      <p:stCondLst>
                        <p:cond delay="indefinite"/>
                      </p:stCondLst>
                      <p:childTnLst>
                        <p:par>
                          <p:cTn id="1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nodeType="clickEffect" fill="hold">
                      <p:stCondLst>
                        <p:cond delay="indefinite"/>
                      </p:stCondLst>
                      <p:childTnLst>
                        <p:par>
                          <p:cTn id="1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nodeType="clickEffect" fill="hold">
                      <p:stCondLst>
                        <p:cond delay="indefinite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nodeType="clickEffect" fill="hold">
                      <p:stCondLst>
                        <p:cond delay="indefinite"/>
                      </p:stCondLst>
                      <p:childTnLst>
                        <p:par>
                          <p:cTn id="1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nodeType="clickEffect" fill="hold">
                      <p:stCondLst>
                        <p:cond delay="indefinite"/>
                      </p:stCondLst>
                      <p:childTnLst>
                        <p:par>
                          <p:cTn id="1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nodeType="clickEffect" fill="hold">
                      <p:stCondLst>
                        <p:cond delay="indefinite"/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nodeType="clickEffect" fill="hold">
                      <p:stCondLst>
                        <p:cond delay="indefinite"/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nodeType="clickEffect" fill="hold">
                      <p:stCondLst>
                        <p:cond delay="indefinite"/>
                      </p:stCondLst>
                      <p:childTnLst>
                        <p:par>
                          <p:cTn id="1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rc 4"/>
          <p:cNvSpPr/>
          <p:nvPr/>
        </p:nvSpPr>
        <p:spPr>
          <a:xfrm flipH="1" rot="10800000">
            <a:off x="5713920" y="2514600"/>
            <a:ext cx="1979640" cy="1519200"/>
          </a:xfrm>
          <a:custGeom>
            <a:avLst/>
            <a:gdLst/>
            <a:ahLst/>
            <a:rect l="l" t="t" r="r" b="b"/>
            <a:pathLst>
              <a:path fill="none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</a:path>
              <a:path stroke="0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  <a:lnTo>
                  <a:pt x="7182" y="21600"/>
                </a:lnTo>
                <a:lnTo>
                  <a:pt x="-1" y="1228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rc 5"/>
          <p:cNvSpPr/>
          <p:nvPr/>
        </p:nvSpPr>
        <p:spPr>
          <a:xfrm>
            <a:off x="914400" y="2514600"/>
            <a:ext cx="1979640" cy="1519200"/>
          </a:xfrm>
          <a:custGeom>
            <a:avLst/>
            <a:gdLst/>
            <a:ahLst/>
            <a:rect l="l" t="t" r="r" b="b"/>
            <a:pathLst>
              <a:path fill="none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</a:path>
              <a:path stroke="0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  <a:lnTo>
                  <a:pt x="7182" y="21600"/>
                </a:lnTo>
                <a:lnTo>
                  <a:pt x="-1" y="1228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rc 7"/>
          <p:cNvSpPr/>
          <p:nvPr/>
        </p:nvSpPr>
        <p:spPr>
          <a:xfrm>
            <a:off x="914400" y="2590920"/>
            <a:ext cx="1979640" cy="1519200"/>
          </a:xfrm>
          <a:custGeom>
            <a:avLst/>
            <a:gdLst/>
            <a:ahLst/>
            <a:rect l="l" t="t" r="r" b="b"/>
            <a:pathLst>
              <a:path fill="none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</a:path>
              <a:path stroke="0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  <a:lnTo>
                  <a:pt x="7182" y="21600"/>
                </a:lnTo>
                <a:lnTo>
                  <a:pt x="-1" y="1228"/>
                </a:lnTo>
                <a:close/>
              </a:path>
            </a:pathLst>
          </a:custGeom>
          <a:noFill/>
          <a:ln w="763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rc 8"/>
          <p:cNvSpPr/>
          <p:nvPr/>
        </p:nvSpPr>
        <p:spPr>
          <a:xfrm flipV="1">
            <a:off x="5715000" y="2666880"/>
            <a:ext cx="1979640" cy="1447920"/>
          </a:xfrm>
          <a:custGeom>
            <a:avLst/>
            <a:gdLst/>
            <a:ahLst/>
            <a:rect l="l" t="t" r="r" b="b"/>
            <a:pathLst>
              <a:path fill="none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</a:path>
              <a:path stroke="0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  <a:lnTo>
                  <a:pt x="7182" y="21600"/>
                </a:lnTo>
                <a:lnTo>
                  <a:pt x="-1" y="1228"/>
                </a:lnTo>
                <a:close/>
              </a:path>
            </a:pathLst>
          </a:custGeom>
          <a:noFill/>
          <a:ln w="763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WordArt 9"/>
          <p:cNvSpPr txBox="1"/>
          <p:nvPr/>
        </p:nvSpPr>
        <p:spPr>
          <a:xfrm>
            <a:off x="3962520" y="228600"/>
            <a:ext cx="1323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8" name="WordArt 10"/>
          <p:cNvSpPr txBox="1"/>
          <p:nvPr/>
        </p:nvSpPr>
        <p:spPr>
          <a:xfrm>
            <a:off x="2438280" y="1219320"/>
            <a:ext cx="40388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ple energy sav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Line 11"/>
          <p:cNvSpPr/>
          <p:nvPr/>
        </p:nvSpPr>
        <p:spPr>
          <a:xfrm flipH="1">
            <a:off x="1752120" y="289548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1052280" y="33177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3"/>
          <p:cNvSpPr/>
          <p:nvPr/>
        </p:nvSpPr>
        <p:spPr>
          <a:xfrm flipV="1">
            <a:off x="2514600" y="251424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3108960" y="23274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5"/>
          <p:cNvSpPr/>
          <p:nvPr/>
        </p:nvSpPr>
        <p:spPr>
          <a:xfrm>
            <a:off x="7086600" y="40384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7453080" y="42321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7"/>
          <p:cNvSpPr/>
          <p:nvPr/>
        </p:nvSpPr>
        <p:spPr>
          <a:xfrm flipH="1" flipV="1">
            <a:off x="6629400" y="33526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8"/>
          <p:cNvSpPr/>
          <p:nvPr/>
        </p:nvSpPr>
        <p:spPr>
          <a:xfrm>
            <a:off x="6309360" y="28605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2194560" y="38512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20"/>
          <p:cNvSpPr/>
          <p:nvPr/>
        </p:nvSpPr>
        <p:spPr>
          <a:xfrm>
            <a:off x="5014440" y="430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21"/>
          <p:cNvSpPr/>
          <p:nvPr/>
        </p:nvSpPr>
        <p:spPr>
          <a:xfrm>
            <a:off x="663840" y="4765680"/>
            <a:ext cx="61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imetallic strip should look as shown ab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nodeType="clickEffect" fill="hold">
                      <p:stCondLst>
                        <p:cond delay="indefinite"/>
                      </p:stCondLst>
                      <p:childTnLst>
                        <p:par>
                          <p:cTn id="1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nodeType="clickEffect" fill="hold">
                      <p:stCondLst>
                        <p:cond delay="indefinite"/>
                      </p:stCondLst>
                      <p:childTnLst>
                        <p:par>
                          <p:cTn id="1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nodeType="clickEffect" fill="hold">
                      <p:stCondLst>
                        <p:cond delay="indefinite"/>
                      </p:stCondLst>
                      <p:childTnLst>
                        <p:par>
                          <p:cTn id="1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nodeType="clickEffect" fill="hold">
                      <p:stCondLst>
                        <p:cond delay="indefinite"/>
                      </p:stCondLst>
                      <p:childTnLst>
                        <p:par>
                          <p:cTn id="1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nodeType="clickEffect" fill="hold">
                      <p:stCondLst>
                        <p:cond delay="indefinite"/>
                      </p:stCondLst>
                      <p:childTnLst>
                        <p:par>
                          <p:cTn id="1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nodeType="clickEffect" fill="hold">
                      <p:stCondLst>
                        <p:cond delay="indefinite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nodeType="clickEffect" fill="hold">
                      <p:stCondLst>
                        <p:cond delay="indefinite"/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nodeType="clickEffect" fill="hold">
                      <p:stCondLst>
                        <p:cond delay="indefinite"/>
                      </p:stCondLst>
                      <p:childTnLst>
                        <p:par>
                          <p:cTn id="1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nodeType="clickEffect" fill="hold">
                      <p:stCondLst>
                        <p:cond delay="indefinite"/>
                      </p:stCondLst>
                      <p:childTnLst>
                        <p:par>
                          <p:cTn id="1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nodeType="clickEffect" fill="hold">
                      <p:stCondLst>
                        <p:cond delay="indefinite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nodeType="clickEffect" fill="hold">
                      <p:stCondLst>
                        <p:cond delay="indefinite"/>
                      </p:stCondLst>
                      <p:childTnLst>
                        <p:par>
                          <p:cTn id="1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nodeType="clickEffect" fill="hold">
                      <p:stCondLst>
                        <p:cond delay="indefinite"/>
                      </p:stCondLst>
                      <p:childTnLst>
                        <p:par>
                          <p:cTn id="1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nodeType="clickEffect" fill="hold">
                      <p:stCondLst>
                        <p:cond delay="indefinite"/>
                      </p:stCondLst>
                      <p:childTnLst>
                        <p:par>
                          <p:cTn id="1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nodeType="clickEffect" fill="hold">
                      <p:stCondLst>
                        <p:cond delay="indefinite"/>
                      </p:stCondLst>
                      <p:childTnLst>
                        <p:par>
                          <p:cTn id="1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1028"/>
          <p:cNvSpPr txBox="1"/>
          <p:nvPr/>
        </p:nvSpPr>
        <p:spPr>
          <a:xfrm>
            <a:off x="40384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6" name="WordArt 1029"/>
          <p:cNvSpPr txBox="1"/>
          <p:nvPr/>
        </p:nvSpPr>
        <p:spPr>
          <a:xfrm>
            <a:off x="2819520" y="1295280"/>
            <a:ext cx="3600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Text Box 1030"/>
          <p:cNvSpPr/>
          <p:nvPr/>
        </p:nvSpPr>
        <p:spPr>
          <a:xfrm>
            <a:off x="457200" y="2286000"/>
            <a:ext cx="829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now that many appliances use thermostats to keep 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eady temp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4"/>
          <p:cNvSpPr txBox="1"/>
          <p:nvPr/>
        </p:nvSpPr>
        <p:spPr>
          <a:xfrm>
            <a:off x="3962520" y="304920"/>
            <a:ext cx="1323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1" name="WordArt 5"/>
          <p:cNvSpPr txBox="1"/>
          <p:nvPr/>
        </p:nvSpPr>
        <p:spPr>
          <a:xfrm>
            <a:off x="1905120" y="1295280"/>
            <a:ext cx="5362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661320" y="2174760"/>
            <a:ext cx="8210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ity can be sent over large di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al cables allow you to send electricity to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s of a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ity can also be very dangerous if not treated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lectric shock can paralyse us and cause our heart to 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ths from electric shocks is more common in young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eld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8" dur="indefinite" restart="never" nodeType="tmRoot">
          <p:childTnLst>
            <p:seq>
              <p:cTn id="1659" dur="indefinite" nodeType="mainSeq">
                <p:childTnLst>
                  <p:par>
                    <p:cTn id="1660" nodeType="clickEffect" fill="hold">
                      <p:stCondLst>
                        <p:cond delay="indefinite"/>
                      </p:stCondLst>
                      <p:childTnLst>
                        <p:par>
                          <p:cTn id="1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nodeType="clickEffect" fill="hold">
                      <p:stCondLst>
                        <p:cond delay="indefinite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nodeType="clickEffect" fill="hold">
                      <p:stCondLst>
                        <p:cond delay="indefinite"/>
                      </p:stCondLst>
                      <p:childTnLst>
                        <p:par>
                          <p:cTn id="1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nodeType="clickEffect" fill="hold">
                      <p:stCondLst>
                        <p:cond delay="indefinite"/>
                      </p:stCondLst>
                      <p:childTnLst>
                        <p:par>
                          <p:cTn id="1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nodeType="clickEffect" fill="hold">
                      <p:stCondLst>
                        <p:cond delay="indefinite"/>
                      </p:stCondLst>
                      <p:childTnLst>
                        <p:par>
                          <p:cTn id="1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nodeType="clickEffect" fill="hold">
                      <p:stCondLst>
                        <p:cond delay="indefinite"/>
                      </p:stCondLst>
                      <p:childTnLst>
                        <p:par>
                          <p:cTn id="1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nodeType="clickEffect" fill="hold">
                      <p:stCondLst>
                        <p:cond delay="indefinite"/>
                      </p:stCondLst>
                      <p:childTnLst>
                        <p:par>
                          <p:cTn id="1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nodeType="clickEffect" fill="hold">
                      <p:stCondLst>
                        <p:cond delay="indefinite"/>
                      </p:stCondLst>
                      <p:childTnLst>
                        <p:par>
                          <p:cTn id="1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nodeType="clickEffect" fill="hold">
                      <p:stCondLst>
                        <p:cond delay="indefinite"/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2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2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WordArt 4"/>
          <p:cNvSpPr txBox="1"/>
          <p:nvPr/>
        </p:nvSpPr>
        <p:spPr>
          <a:xfrm>
            <a:off x="380988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4" name="WordArt 5"/>
          <p:cNvSpPr txBox="1"/>
          <p:nvPr/>
        </p:nvSpPr>
        <p:spPr>
          <a:xfrm>
            <a:off x="1828800" y="1143000"/>
            <a:ext cx="5362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133920" y="2174760"/>
            <a:ext cx="7785360" cy="26542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ires in a three pin plug are coloured as follows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VE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 BR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 B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4"/>
          <p:cNvSpPr txBox="1"/>
          <p:nvPr/>
        </p:nvSpPr>
        <p:spPr>
          <a:xfrm>
            <a:off x="42670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7" name="WordArt 5"/>
          <p:cNvSpPr txBox="1"/>
          <p:nvPr/>
        </p:nvSpPr>
        <p:spPr>
          <a:xfrm>
            <a:off x="1981080" y="1295280"/>
            <a:ext cx="54673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us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2808360" y="217476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HREE PIN PL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9"/>
          <p:cNvSpPr/>
          <p:nvPr/>
        </p:nvSpPr>
        <p:spPr>
          <a:xfrm>
            <a:off x="890640" y="3013200"/>
            <a:ext cx="7532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Collect a diagram of the three pin plug which has b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vi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Stick it into your note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ormation :- the earth is for safety .The fuse is for safet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switch is for safety.The electricity flows FROM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VE wire and BACK via the 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You will be shown how to wire the plug by your teac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0" dur="indefinite" restart="never" nodeType="tmRoot">
          <p:childTnLst>
            <p:seq>
              <p:cTn id="1721" dur="indefinite" nodeType="mainSeq">
                <p:childTnLst>
                  <p:par>
                    <p:cTn id="1722" nodeType="clickEffect" fill="hold">
                      <p:stCondLst>
                        <p:cond delay="indefinite"/>
                      </p:stCondLst>
                      <p:childTnLst>
                        <p:par>
                          <p:cTn id="1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nodeType="clickEffect" fill="hold">
                      <p:stCondLst>
                        <p:cond delay="indefinite"/>
                      </p:stCondLst>
                      <p:childTnLst>
                        <p:par>
                          <p:cTn id="1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nodeType="clickEffect" fill="hold">
                      <p:stCondLst>
                        <p:cond delay="indefinite"/>
                      </p:stCondLst>
                      <p:childTnLst>
                        <p:par>
                          <p:cTn id="1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nodeType="clickEffect" fill="hold">
                      <p:stCondLst>
                        <p:cond delay="indefinite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nodeType="clickEffect" fill="hold">
                      <p:stCondLst>
                        <p:cond delay="indefinite"/>
                      </p:stCondLst>
                      <p:childTnLst>
                        <p:par>
                          <p:cTn id="1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nodeType="clickEffect" fill="hold">
                      <p:stCondLst>
                        <p:cond delay="indefinite"/>
                      </p:stCondLst>
                      <p:childTnLst>
                        <p:par>
                          <p:cTn id="1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nodeType="clickEffect" fill="hold">
                      <p:stCondLst>
                        <p:cond delay="indefinite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nodeType="clickEffect" fill="hold">
                      <p:stCondLst>
                        <p:cond delay="indefinite"/>
                      </p:stCondLst>
                      <p:childTnLst>
                        <p:par>
                          <p:cTn id="1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nodeType="clickEffect" fill="hold">
                      <p:stCondLst>
                        <p:cond delay="indefinite"/>
                      </p:stCondLst>
                      <p:childTnLst>
                        <p:par>
                          <p:cTn id="1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WordArt 4"/>
          <p:cNvSpPr txBox="1"/>
          <p:nvPr/>
        </p:nvSpPr>
        <p:spPr>
          <a:xfrm>
            <a:off x="41148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1" name="WordArt 5"/>
          <p:cNvSpPr txBox="1"/>
          <p:nvPr/>
        </p:nvSpPr>
        <p:spPr>
          <a:xfrm>
            <a:off x="1752480" y="1219320"/>
            <a:ext cx="54673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us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1432080" y="213372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HREE PIN PLUG CONT`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5943600" y="2133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118160" y="2784600"/>
            <a:ext cx="7972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fuse is a thin piece of wire which will melt if too mu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rrent flows through it.If more than 3 amperes flows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3 ampere fuse it will melt and will cause all the electricity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switched off.This means that the plug wires cannot over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cause a fire.Fuses are of two types in a three pin plu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n appliance uses more than 3 amperes(3A) then a 13 amp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se must be used.If it uses less than 3A then a 3A fu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2579760" y="1717560"/>
            <a:ext cx="32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2" dur="indefinite" restart="never" nodeType="tmRoot">
          <p:childTnLst>
            <p:seq>
              <p:cTn id="1783" dur="indefinite" nodeType="mainSeq">
                <p:childTnLst>
                  <p:par>
                    <p:cTn id="1784" nodeType="clickEffect" fill="hold">
                      <p:stCondLst>
                        <p:cond delay="indefinite"/>
                      </p:stCondLst>
                      <p:childTnLst>
                        <p:par>
                          <p:cTn id="1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nodeType="clickEffect" fill="hold">
                      <p:stCondLst>
                        <p:cond delay="indefinite"/>
                      </p:stCondLst>
                      <p:childTnLst>
                        <p:par>
                          <p:cTn id="1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nodeType="clickEffect" fill="hold">
                      <p:stCondLst>
                        <p:cond delay="indefinite"/>
                      </p:stCondLst>
                      <p:childTnLst>
                        <p:par>
                          <p:cTn id="1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nodeType="clickEffect" fill="hold">
                      <p:stCondLst>
                        <p:cond delay="indefinite"/>
                      </p:stCondLst>
                      <p:childTnLst>
                        <p:par>
                          <p:cTn id="1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nodeType="clickEffect" fill="hold">
                      <p:stCondLst>
                        <p:cond delay="indefinite"/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nodeType="clickEffect" fill="hold">
                      <p:stCondLst>
                        <p:cond delay="indefinite"/>
                      </p:stCondLst>
                      <p:childTnLst>
                        <p:par>
                          <p:cTn id="1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nodeType="clickEffect" fill="hold">
                      <p:stCondLst>
                        <p:cond delay="indefinite"/>
                      </p:stCondLst>
                      <p:childTnLst>
                        <p:par>
                          <p:cTn id="1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nodeType="clickEffect" fill="hold">
                      <p:stCondLst>
                        <p:cond delay="indefinite"/>
                      </p:stCondLst>
                      <p:childTnLst>
                        <p:par>
                          <p:cTn id="1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1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nodeType="clickEffect" fill="hold">
                      <p:stCondLst>
                        <p:cond delay="indefinite"/>
                      </p:stCondLst>
                      <p:childTnLst>
                        <p:par>
                          <p:cTn id="1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7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nodeType="clickEffect" fill="hold">
                      <p:stCondLst>
                        <p:cond delay="indefinite"/>
                      </p:stCondLst>
                      <p:childTnLst>
                        <p:par>
                          <p:cTn id="1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nodeType="clickEffect" fill="hold">
                      <p:stCondLst>
                        <p:cond delay="indefinite"/>
                      </p:stCondLst>
                      <p:childTnLst>
                        <p:par>
                          <p:cTn id="1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nodeType="clickEffect" fill="hold">
                      <p:stCondLst>
                        <p:cond delay="indefinite"/>
                      </p:stCondLst>
                      <p:childTnLst>
                        <p:par>
                          <p:cTn id="1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ECTRICAL </a:t>
            </a:r>
            <a:r>
              <a:rPr b="0" lang="en-GB" sz="4400" spc="-1" strike="noStrike">
                <a:solidFill>
                  <a:srgbClr val="030000"/>
                </a:solidFill>
                <a:latin typeface="Times New Roman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u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generally have two types of fuse , the 3Amp and the 13 Am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fuse is a safety device in the three pin plu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 power of an appliance is greater than 700Watts , e.g. a kettle , we use a 13Amp fuse.If it is less than 700 Watts , e.g. a lamp , we fit a 3Amp f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6" dur="indefinite" restart="never" nodeType="tmRoot">
          <p:childTnLst>
            <p:seq>
              <p:cTn id="1857" dur="indefinite" nodeType="mainSeq">
                <p:childTnLst>
                  <p:par>
                    <p:cTn id="1858" nodeType="clickEffect" fill="hold">
                      <p:stCondLst>
                        <p:cond delay="indefinite"/>
                      </p:stCondLst>
                      <p:childTnLst>
                        <p:par>
                          <p:cTn id="1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nodeType="clickEffect" fill="hold">
                      <p:stCondLst>
                        <p:cond delay="indefinite"/>
                      </p:stCondLst>
                      <p:childTnLst>
                        <p:par>
                          <p:cTn id="1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nodeType="clickEffect" fill="hold">
                      <p:stCondLst>
                        <p:cond delay="indefinite"/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nodeType="clickEffect" fill="hold">
                      <p:stCondLst>
                        <p:cond delay="indefinite"/>
                      </p:stCondLst>
                      <p:childTnLst>
                        <p:par>
                          <p:cTn id="1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nodeType="clickEffect" fill="hold">
                      <p:stCondLst>
                        <p:cond delay="indefinite"/>
                      </p:stCondLst>
                      <p:childTnLst>
                        <p:par>
                          <p:cTn id="1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nodeType="clickEffect" fill="hold">
                      <p:stCondLst>
                        <p:cond delay="indefinite"/>
                      </p:stCondLst>
                      <p:childTnLst>
                        <p:par>
                          <p:cTn id="1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nodeType="clickEffect" fill="hold">
                      <p:stCondLst>
                        <p:cond delay="indefinite"/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WordArt 4"/>
          <p:cNvSpPr txBox="1"/>
          <p:nvPr/>
        </p:nvSpPr>
        <p:spPr>
          <a:xfrm>
            <a:off x="42670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9" name="WordArt 5"/>
          <p:cNvSpPr txBox="1"/>
          <p:nvPr/>
        </p:nvSpPr>
        <p:spPr>
          <a:xfrm>
            <a:off x="2133720" y="1295280"/>
            <a:ext cx="54673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us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2209680" y="21337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ORMATION THE EARTH 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814680" y="2936880"/>
            <a:ext cx="8292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rmally the earth does nothing in a circuit, but if the live 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how touches the casing of an appliance  such as a toast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would get an electric shock and be badly injured.To stop th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ppening,the earth wire causes a large current to flow.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ows the fuse and the appliance becomes d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0" dur="indefinite" restart="never" nodeType="tmRoot">
          <p:childTnLst>
            <p:seq>
              <p:cTn id="1901" dur="indefinite" nodeType="mainSeq">
                <p:childTnLst>
                  <p:par>
                    <p:cTn id="1902" nodeType="clickEffect" fill="hold">
                      <p:stCondLst>
                        <p:cond delay="indefinite"/>
                      </p:stCondLst>
                      <p:childTnLst>
                        <p:par>
                          <p:cTn id="1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nodeType="clickEffect" fill="hold">
                      <p:stCondLst>
                        <p:cond delay="indefinite"/>
                      </p:stCondLst>
                      <p:childTnLst>
                        <p:par>
                          <p:cTn id="1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nodeType="clickEffect" fill="hold">
                      <p:stCondLst>
                        <p:cond delay="indefinite"/>
                      </p:stCondLst>
                      <p:childTnLst>
                        <p:par>
                          <p:cTn id="1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nodeType="clickEffect" fill="hold">
                      <p:stCondLst>
                        <p:cond delay="indefinite"/>
                      </p:stCondLst>
                      <p:childTnLst>
                        <p:par>
                          <p:cTn id="1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nodeType="clickEffect" fill="hold">
                      <p:stCondLst>
                        <p:cond delay="indefinite"/>
                      </p:stCondLst>
                      <p:childTnLst>
                        <p:par>
                          <p:cTn id="1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nodeType="clickEffect" fill="hold">
                      <p:stCondLst>
                        <p:cond delay="indefinite"/>
                      </p:stCondLst>
                      <p:childTnLst>
                        <p:par>
                          <p:cTn id="1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nodeType="clickEffect" fill="hold">
                      <p:stCondLst>
                        <p:cond delay="indefinite"/>
                      </p:stCondLst>
                      <p:childTnLst>
                        <p:par>
                          <p:cTn id="1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nodeType="clickEffect" fill="hold">
                      <p:stCondLst>
                        <p:cond delay="indefinite"/>
                      </p:stCondLst>
                      <p:childTnLst>
                        <p:par>
                          <p:cTn id="1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N RENEWABLE SOURCES OF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Fossil Fu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se are coal , oil and g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al is made from dead plant material milloins of years 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il and Gas are made from dead sea creatures millons of years 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ce they have been used they can no longer be used and are therefore running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0" dur="indefinite" restart="never" nodeType="tmRoot">
          <p:childTnLst>
            <p:seq>
              <p:cTn id="1951" dur="indefinite" nodeType="mainSeq">
                <p:childTnLst>
                  <p:par>
                    <p:cTn id="1952" nodeType="clickEffect" fill="hold">
                      <p:stCondLst>
                        <p:cond delay="indefinite"/>
                      </p:stCondLst>
                      <p:childTnLst>
                        <p:par>
                          <p:cTn id="1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nodeType="clickEffect" fill="hold">
                      <p:stCondLst>
                        <p:cond delay="indefinite"/>
                      </p:stCondLst>
                      <p:childTnLst>
                        <p:par>
                          <p:cTn id="1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nodeType="clickEffect" fill="hold">
                      <p:stCondLst>
                        <p:cond delay="indefinite"/>
                      </p:stCondLst>
                      <p:childTnLst>
                        <p:par>
                          <p:cTn id="1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nodeType="clickEffect" fill="hold">
                      <p:stCondLst>
                        <p:cond delay="indefinite"/>
                      </p:stCondLst>
                      <p:childTnLst>
                        <p:par>
                          <p:cTn id="1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nodeType="clickEffect" fill="hold">
                      <p:stCondLst>
                        <p:cond delay="indefinite"/>
                      </p:stCondLst>
                      <p:childTnLst>
                        <p:par>
                          <p:cTn id="1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nodeType="clickEffect" fill="hold">
                      <p:stCondLst>
                        <p:cond delay="indefinite"/>
                      </p:stCondLst>
                      <p:childTnLst>
                        <p:par>
                          <p:cTn id="1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nodeType="clickEffect" fill="hold">
                      <p:stCondLst>
                        <p:cond delay="indefinite"/>
                      </p:stCondLst>
                      <p:childTnLst>
                        <p:par>
                          <p:cTn id="1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UDE O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rude oil is a mixture of hundreds of different compounds and is difficult to bu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taken from the worlds oil fields to refineries where it is clea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separated into different chemicals we can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ach different chemical is separated out at a different temper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4" dur="indefinite" restart="never" nodeType="tmRoot">
          <p:childTnLst>
            <p:seq>
              <p:cTn id="1995" dur="indefinite" nodeType="mainSeq">
                <p:childTnLst>
                  <p:par>
                    <p:cTn id="1996" nodeType="clickEffect" fill="hold">
                      <p:stCondLst>
                        <p:cond delay="indefinite"/>
                      </p:stCondLst>
                      <p:childTnLst>
                        <p:par>
                          <p:cTn id="1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nodeType="clickEffect" fill="hold">
                      <p:stCondLst>
                        <p:cond delay="indefinite"/>
                      </p:stCondLst>
                      <p:childTnLst>
                        <p:par>
                          <p:cTn id="2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nodeType="clickEffect" fill="hold">
                      <p:stCondLst>
                        <p:cond delay="indefinite"/>
                      </p:stCondLst>
                      <p:childTnLst>
                        <p:par>
                          <p:cTn id="2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nodeType="clickEffect" fill="hold">
                      <p:stCondLst>
                        <p:cond delay="indefinite"/>
                      </p:stCondLst>
                      <p:childTnLst>
                        <p:par>
                          <p:cTn id="2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nodeType="clickEffect" fill="hold">
                      <p:stCondLst>
                        <p:cond delay="indefinite"/>
                      </p:stCondLst>
                      <p:childTnLst>
                        <p:par>
                          <p:cTn id="2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nodeType="clickEffect" fill="hold">
                      <p:stCondLst>
                        <p:cond delay="indefinite"/>
                      </p:stCondLst>
                      <p:childTnLst>
                        <p:par>
                          <p:cTn id="2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UDE O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ude oil products include the following 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ottled gas at 20</a:t>
            </a:r>
            <a:r>
              <a:rPr b="0" lang="en-GB" sz="3200" spc="-1" strike="noStrike" baseline="24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rol at 70</a:t>
            </a:r>
            <a:r>
              <a:rPr b="0" lang="en-GB" sz="3200" spc="-1" strike="noStrike" baseline="2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 for vehic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affin oil at 170</a:t>
            </a:r>
            <a:r>
              <a:rPr b="0" lang="en-GB" sz="3200" spc="-1" strike="noStrike" baseline="2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 for jets and ligh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esel at 270</a:t>
            </a:r>
            <a:r>
              <a:rPr b="0" lang="en-GB" sz="3200" spc="-1" strike="noStrike" baseline="2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  for tr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ubricating oils for oil , polis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itumen at 350</a:t>
            </a:r>
            <a:r>
              <a:rPr b="0" lang="en-GB" sz="3200" spc="-1" strike="noStrike" baseline="2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 for roa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2" dur="indefinite" restart="never" nodeType="tmRoot">
          <p:childTnLst>
            <p:seq>
              <p:cTn id="2033" dur="indefinite" nodeType="mainSeq">
                <p:childTnLst>
                  <p:par>
                    <p:cTn id="2034" nodeType="clickEffect" fill="hold">
                      <p:stCondLst>
                        <p:cond delay="indefinite"/>
                      </p:stCondLst>
                      <p:childTnLst>
                        <p:par>
                          <p:cTn id="2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nodeType="clickEffect" fill="hold">
                      <p:stCondLst>
                        <p:cond delay="indefinite"/>
                      </p:stCondLst>
                      <p:childTnLst>
                        <p:par>
                          <p:cTn id="2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nodeType="clickEffect" fill="hold">
                      <p:stCondLst>
                        <p:cond delay="indefinite"/>
                      </p:stCondLst>
                      <p:childTnLst>
                        <p:par>
                          <p:cTn id="2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nodeType="clickEffect" fill="hold">
                      <p:stCondLst>
                        <p:cond delay="indefinite"/>
                      </p:stCondLst>
                      <p:childTnLst>
                        <p:par>
                          <p:cTn id="2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nodeType="clickEffect" fill="hold">
                      <p:stCondLst>
                        <p:cond delay="indefinite"/>
                      </p:stCondLst>
                      <p:childTnLst>
                        <p:par>
                          <p:cTn id="2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2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nodeType="clickEffect" fill="hold">
                      <p:stCondLst>
                        <p:cond delay="indefinite"/>
                      </p:stCondLst>
                      <p:childTnLst>
                        <p:par>
                          <p:cTn id="2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9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nodeType="clickEffect" fill="hold">
                      <p:stCondLst>
                        <p:cond delay="indefinite"/>
                      </p:stCondLst>
                      <p:childTnLst>
                        <p:par>
                          <p:cTn id="2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nodeType="clickEffect" fill="hold">
                      <p:stCondLst>
                        <p:cond delay="indefinite"/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0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nodeType="clickEffect" fill="hold">
                      <p:stCondLst>
                        <p:cond delay="indefinite"/>
                      </p:stCondLst>
                      <p:childTnLst>
                        <p:par>
                          <p:cTn id="2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rning Fu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 fuels are burned in oxygen , heat is produced but carbon dioxide and water vapour are also produ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lphur dioxide and nitrogen are also produ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se gases cause global warming and acid r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8" dur="indefinite" restart="never" nodeType="tmRoot">
          <p:childTnLst>
            <p:seq>
              <p:cTn id="2089" dur="indefinite" nodeType="mainSeq">
                <p:childTnLst>
                  <p:par>
                    <p:cTn id="2090" nodeType="clickEffect" fill="hold">
                      <p:stCondLst>
                        <p:cond delay="indefinite"/>
                      </p:stCondLst>
                      <p:childTnLst>
                        <p:par>
                          <p:cTn id="2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nodeType="clickEffect" fill="hold">
                      <p:stCondLst>
                        <p:cond delay="indefinite"/>
                      </p:stCondLst>
                      <p:childTnLst>
                        <p:par>
                          <p:cTn id="2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nodeType="clickEffect" fill="hold">
                      <p:stCondLst>
                        <p:cond delay="indefinite"/>
                      </p:stCondLst>
                      <p:childTnLst>
                        <p:par>
                          <p:cTn id="2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nodeType="clickEffect" fill="hold">
                      <p:stCondLst>
                        <p:cond delay="indefinite"/>
                      </p:stCondLst>
                      <p:childTnLst>
                        <p:par>
                          <p:cTn id="2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4" nodeType="clickEffect" fill="hold">
                      <p:stCondLst>
                        <p:cond delay="indefinite"/>
                      </p:stCondLst>
                      <p:childTnLst>
                        <p:par>
                          <p:cTn id="2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8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nodeType="clickEffect" fill="hold">
                      <p:stCondLst>
                        <p:cond delay="indefinite"/>
                      </p:stCondLst>
                      <p:childTnLst>
                        <p:par>
                          <p:cTn id="2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>
            <a:off x="304920" y="533520"/>
            <a:ext cx="18763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heating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WordArt 5"/>
          <p:cNvSpPr txBox="1"/>
          <p:nvPr/>
        </p:nvSpPr>
        <p:spPr>
          <a:xfrm>
            <a:off x="7315200" y="457200"/>
            <a:ext cx="14670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ight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380880" y="5715000"/>
            <a:ext cx="1524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oking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WordArt 7"/>
          <p:cNvSpPr txBox="1"/>
          <p:nvPr/>
        </p:nvSpPr>
        <p:spPr>
          <a:xfrm>
            <a:off x="8077320" y="5715000"/>
            <a:ext cx="609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fu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1981080"/>
            <a:ext cx="909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se are the four main activities that people us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ergy for in a ho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other gas is produced when fuel does not burn completely.This is called Carbon Monox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gas has no smell and can cause de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rs are now fitted with catalytic converters which convert this gas into a harmless g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energy photo one"/>
          <p:cNvPicPr/>
          <p:nvPr/>
        </p:nvPicPr>
        <p:blipFill>
          <a:blip r:embed="rId1"/>
          <a:stretch/>
        </p:blipFill>
        <p:spPr>
          <a:xfrm>
            <a:off x="4594320" y="380880"/>
            <a:ext cx="4197240" cy="6477120"/>
          </a:xfrm>
          <a:prstGeom prst="rect">
            <a:avLst/>
          </a:prstGeom>
          <a:ln w="0">
            <a:noFill/>
          </a:ln>
        </p:spPr>
      </p:pic>
      <p:sp>
        <p:nvSpPr>
          <p:cNvPr id="64" name="WordArt 6"/>
          <p:cNvSpPr txBox="1"/>
          <p:nvPr/>
        </p:nvSpPr>
        <p:spPr>
          <a:xfrm>
            <a:off x="1523880" y="38088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438120" y="1793880"/>
            <a:ext cx="413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looking at the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own, list the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ways in which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us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384120" y="3470400"/>
            <a:ext cx="39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appliances 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ost energ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4"/>
          <p:cNvSpPr txBox="1"/>
          <p:nvPr/>
        </p:nvSpPr>
        <p:spPr>
          <a:xfrm>
            <a:off x="403848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2743200" y="1143000"/>
            <a:ext cx="3600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889920" y="2022480"/>
            <a:ext cx="7839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can be supplied to the home in three w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ity :- this is brought to us from power stations.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es via pylons and underground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:- this comes from the north sea.It is pumped a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ipelines to gas s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id fuel :- this is the form of coal, wood or peat.Coal i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ned and peat is cut from the g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1028"/>
          <p:cNvSpPr txBox="1"/>
          <p:nvPr/>
        </p:nvSpPr>
        <p:spPr>
          <a:xfrm>
            <a:off x="3200400" y="304920"/>
            <a:ext cx="30193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ypes of heating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Text Box 1030"/>
          <p:cNvSpPr/>
          <p:nvPr/>
        </p:nvSpPr>
        <p:spPr>
          <a:xfrm>
            <a:off x="693720" y="1695600"/>
            <a:ext cx="4923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st houses use eith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as central hea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ectric central hea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as f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ectric f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4"/>
          <p:cNvSpPr txBox="1"/>
          <p:nvPr/>
        </p:nvSpPr>
        <p:spPr>
          <a:xfrm>
            <a:off x="41148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3" name="WordArt 5"/>
          <p:cNvSpPr txBox="1"/>
          <p:nvPr/>
        </p:nvSpPr>
        <p:spPr>
          <a:xfrm>
            <a:off x="2057400" y="1295280"/>
            <a:ext cx="5038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es of 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Oval 6"/>
          <p:cNvSpPr/>
          <p:nvPr/>
        </p:nvSpPr>
        <p:spPr>
          <a:xfrm>
            <a:off x="2743200" y="2743200"/>
            <a:ext cx="4343400" cy="36576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7"/>
          <p:cNvSpPr/>
          <p:nvPr/>
        </p:nvSpPr>
        <p:spPr>
          <a:xfrm>
            <a:off x="4876920" y="2819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2743200" y="4876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3"/>
          <p:cNvSpPr/>
          <p:nvPr/>
        </p:nvSpPr>
        <p:spPr>
          <a:xfrm flipH="1" flipV="1">
            <a:off x="2742840" y="4190760"/>
            <a:ext cx="21337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22"/>
          <p:cNvSpPr/>
          <p:nvPr/>
        </p:nvSpPr>
        <p:spPr>
          <a:xfrm flipH="1">
            <a:off x="2666520" y="48769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3"/>
          <p:cNvSpPr/>
          <p:nvPr/>
        </p:nvSpPr>
        <p:spPr>
          <a:xfrm flipH="1">
            <a:off x="3733560" y="48769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3489840" y="339408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t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3566880" y="38512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7"/>
          <p:cNvSpPr/>
          <p:nvPr/>
        </p:nvSpPr>
        <p:spPr>
          <a:xfrm>
            <a:off x="2805840" y="43848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8"/>
          <p:cNvSpPr/>
          <p:nvPr/>
        </p:nvSpPr>
        <p:spPr>
          <a:xfrm>
            <a:off x="3338280" y="43848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2"/>
          <p:cNvSpPr/>
          <p:nvPr/>
        </p:nvSpPr>
        <p:spPr>
          <a:xfrm>
            <a:off x="2880360" y="48420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o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3"/>
          <p:cNvSpPr/>
          <p:nvPr/>
        </p:nvSpPr>
        <p:spPr>
          <a:xfrm>
            <a:off x="3186000" y="5222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4"/>
          <p:cNvSpPr/>
          <p:nvPr/>
        </p:nvSpPr>
        <p:spPr>
          <a:xfrm>
            <a:off x="5242320" y="3699000"/>
            <a:ext cx="114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36"/>
          <p:cNvSpPr/>
          <p:nvPr/>
        </p:nvSpPr>
        <p:spPr>
          <a:xfrm flipV="1">
            <a:off x="6019920" y="274284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37"/>
          <p:cNvSpPr/>
          <p:nvPr/>
        </p:nvSpPr>
        <p:spPr>
          <a:xfrm>
            <a:off x="6934320" y="4724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8"/>
          <p:cNvSpPr/>
          <p:nvPr/>
        </p:nvSpPr>
        <p:spPr>
          <a:xfrm>
            <a:off x="6172200" y="58672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9"/>
          <p:cNvSpPr/>
          <p:nvPr/>
        </p:nvSpPr>
        <p:spPr>
          <a:xfrm flipH="1" flipV="1">
            <a:off x="2742840" y="28195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40"/>
          <p:cNvSpPr/>
          <p:nvPr/>
        </p:nvSpPr>
        <p:spPr>
          <a:xfrm flipH="1">
            <a:off x="1447920" y="4572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41"/>
          <p:cNvSpPr/>
          <p:nvPr/>
        </p:nvSpPr>
        <p:spPr>
          <a:xfrm flipH="1">
            <a:off x="2057040" y="563868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47"/>
          <p:cNvSpPr/>
          <p:nvPr/>
        </p:nvSpPr>
        <p:spPr>
          <a:xfrm>
            <a:off x="4572000" y="5867280"/>
            <a:ext cx="76320" cy="763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5"/>
          <p:cNvSpPr txBox="1"/>
          <p:nvPr/>
        </p:nvSpPr>
        <p:spPr>
          <a:xfrm>
            <a:off x="40384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5" name="WordArt 8"/>
          <p:cNvSpPr txBox="1"/>
          <p:nvPr/>
        </p:nvSpPr>
        <p:spPr>
          <a:xfrm>
            <a:off x="2057400" y="1295280"/>
            <a:ext cx="5038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es of 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0" y="2209680"/>
            <a:ext cx="9499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next slide shows the uses of energy in the h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uses are :- 1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t water   20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.V. ,lights etc. :-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oking :- 10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oom heating  :- 6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nk of other appliances and add them to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a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09:58Z</dcterms:created>
  <dc:creator>Physics Department</dc:creator>
  <dc:description/>
  <dc:language>en-US</dc:language>
  <cp:lastModifiedBy>RomaK</cp:lastModifiedBy>
  <dcterms:modified xsi:type="dcterms:W3CDTF">2015-09-03T12:25:36Z</dcterms:modified>
  <cp:revision>48</cp:revision>
  <dc:subject/>
  <dc:title>PowerPoint Presentation</dc:title>
</cp:coreProperties>
</file>